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7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10.gif" ContentType="image/gif"/>
  <Override PartName="/ppt/media/image8.wmf" ContentType="image/x-wmf"/>
  <Override PartName="/ppt/media/image13.png" ContentType="image/png"/>
  <Override PartName="/ppt/media/image5.gif" ContentType="image/gif"/>
  <Override PartName="/ppt/media/applause.wav" ContentType="audio/x-wav"/>
  <Override PartName="/ppt/media/image22.png" ContentType="image/png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chimes.wav" ContentType="audio/x-wav"/>
  <Override PartName="/ppt/media/image4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18E-ECE6-4880-B417-5B5EE152439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CA9A-7B6C-4819-AE23-29E637B0206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F85-90DB-479D-B740-BCF1C630F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4DE-7B90-46C8-A152-9E54B5DAD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109-2EBD-4F85-AAD2-AD38E1845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C92-9F96-468C-A9E0-36ED1C42137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F52E-F4E7-4F2C-94AF-386C95E7EB5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1D3-9E2B-4BF0-B4FE-9BFE200FDD8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3A3-24A1-4A2C-899D-E668CBB8214A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CA5E-B4E5-41BC-9C32-F8751100C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117-435A-4AA3-A97A-ADD09715EA1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721-8EA8-4064-B243-1DB415FAFF5A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B8F-2B17-414A-B36C-C8DE4212B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E18-6E87-4E4D-80DB-9E5C490DE69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B58-8B9B-4EED-8F42-40B526A4C36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062-09ED-479A-BEC6-B36B31DFE5DE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AA0-EB62-424E-81A0-17C92F2D3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C69-2F55-4C82-9A14-E21BBC36C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37A-3B2D-4F83-A476-B1C16955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99D-AE09-4D31-986C-0484EFB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C8345-3896-4DBA-82A4-23BA1BC3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BEB1A-DCDD-4E21-B131-016064D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2351C-C7BE-4700-9FDE-1ACFAE2A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F3AAD-3418-445D-86FC-9B0D938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A3EE3-5C0F-4A74-A10F-EFDA11C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32A5A-6308-44F9-9223-B5E7F41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5C9A4-B008-4A59-AD31-ED2600D8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28B31-5B5C-4ADD-92E0-2EA22B9F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D88DD-65D7-4956-8252-82587720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196C7-B841-4181-B1DB-7A5BEDC5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68A-B780-499C-8F93-4F78ED3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967C4-5F09-4B11-9DB5-F04C5CC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E5E62-5384-40B6-A1E1-2645F8A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1589A-8B62-47FF-BFF8-5AC3456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0E980-BC48-4C72-B6C7-5472AB9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4F7AF-DED6-4075-9B15-FF33D339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7D5B9-4325-417A-BA14-9B568C4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108DC-39DB-4FFE-A307-70964DC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F9615-C6F1-40B5-8E41-95C934C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B8E25-EA69-481F-93CC-57D2AEB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B8CB5-4256-4490-96E1-ED8B32B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566-20A6-4EC0-AA20-E6ABCB38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1CC56-D8A4-42FA-8775-A322CCD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B84B1-DDF2-4C04-8587-A2CC959F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19792-2C7C-4809-8677-1CC66B1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194A0-9D79-4B52-8ABD-40DF466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7AE3B-DB53-4672-B2EB-FD36803E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C8C1A-8AFE-4B3E-91AE-8793698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A8469-055A-4463-96B6-71744CC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4831-805E-4352-B741-07207DA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79A91-4403-4C2B-98F1-5C60C83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9478D-DD4C-46A6-942A-3D1EB4A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366-AC0A-47F3-9D0D-18293730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A57A1-9FA8-4FD6-A160-1007A57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FB7A7-1DD8-4016-A0A3-4D4B4B1F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35E8-5025-4C3C-BB6B-FF1030C5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EAC06-1054-45CC-8020-081F0B49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C7EB5-8D66-444D-98F1-608DD80A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B9E05-8445-42F1-AB3D-9918012A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59678-25EE-43E0-93F6-696517B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0C73A-0FF1-4564-9CED-1A9CE89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644E8-7801-4FC7-AE65-3E490E42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5A738-F070-4432-814A-DF08791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E30-9000-4107-83B7-3D25A40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2CF50-B878-479F-897B-7B4C574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7BE7E-64EE-4239-BA10-EA0941E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FE8C8-FE86-4A63-AC7A-67BD581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38CC4-E4A0-4E55-96FF-9A2E6A51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A3561-BD94-46D5-A3F3-511AD99D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39E-DF92-42A4-97B8-EC64A0A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0842-88D6-4DE0-8552-991A923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761-1125-4EC0-8599-03846F5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1B6-237B-4B96-98C7-5D9A34F9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23EA-1D61-47BF-8E4E-657554FC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86A-6EF4-4DD2-A660-45F7F3BB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2F63-9C3C-42B3-A43F-70EF8C1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235-40DD-4745-8FB4-BA80A55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8807-5C20-452A-BC78-078408F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64C-DC6E-45D2-AE5E-0F8DD07D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4E5B-E1B5-4D78-AB9A-EA155CD8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3DE6-36AC-4BE4-BB55-A1CF5DBA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8D4B-BFC1-4206-808B-2BDB8B4A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58EE-96CC-4C7B-95E1-83472E35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A8E5-9E41-4E17-BDE6-3905E98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1011-D40B-41ED-9CBE-1D0EF07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0E3-16D6-48D1-A4E2-B91453C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C5EA-5842-4EC1-9528-64FE0872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8939-F59A-4A90-9200-D600314D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57E5-F855-4025-A027-DF9D863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95E0-EF77-44BD-9C5C-B3BFC33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7977-2024-4FC2-BCAD-3545A1AD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49C6-C913-4127-BA3E-96CA31B0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E219-AF99-464B-9FB4-41D6C0A9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6FD7-557F-42E8-AC3D-4D4A1DEF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ED59-FA75-4F87-9556-6F4E4122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32A1-F4C7-4D74-8BA7-5EB0CA2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66F-8659-47E3-861F-47412D03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EF1F-BE76-4C59-BC49-0F89E2E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5788-576D-479A-A02C-FAE98D0D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376E-F84C-4ABA-B5A4-7A9C7E3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9259-D44C-408B-925E-C2FFF8B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5886-9233-4FC3-8AF2-CA00870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7A97-5F0F-4A8E-A6E6-5259F87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E971-3389-4350-BD1B-66E4FA6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AADB-2047-4924-8739-283CD2E1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9A6F-9A3A-4DF0-8274-E1E8DF82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62AA-2BA8-4159-8E61-E6D435A7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20A-9AF4-444F-B925-4E3423F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877E-D3CB-46C1-92E1-64228D93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0542-8562-44E9-9CAB-7AEACC59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9145-A9A2-4751-8958-FFC760F5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A0997-E406-4B05-8E3B-5D4F18D8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3AE5-C4CA-48D6-8128-25C38FD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7DF6-D1E1-4BB6-BC95-28380A7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6210-C643-4B67-A59B-1D6E011A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FA63-7FDB-46D8-9978-1CCF75C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FF5E4-FE7C-4784-BA3B-F0CD79E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F3DC-37B1-44D4-ACAE-D0DB463A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0FD-974D-46DE-B464-5F9EB29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938EA-DB9A-4C02-B5BF-08EBF223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8180-9BB7-469A-B2E2-9151F98E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7156-AB6E-4A3A-BD65-637F878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3A4B-FE05-44B8-A9F6-26B9CC8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A4BD-CAEB-432A-AC5F-0C3762B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1548-DF64-4B5F-B4AB-599D7D2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4308-2AF0-4968-8CDC-AE0E1C8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20E1-26F1-422E-AC49-6A11C90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7A77-869C-40A6-AD8C-0C87BA7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2A76-E785-41F6-A84E-E16F11A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BBC-065E-4770-8055-ECBF50C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048F-9D66-437D-A23B-1486DA67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42A3-BF6A-4A11-814D-83348520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A555-71D8-4999-9AFA-6EA9E830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3DB2-A44B-4E5B-980F-B5670C39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1D54-CFC0-494F-95F9-21B5EEF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6834-904A-4F77-A861-6ACD815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545B-24A9-490C-ACB8-52F8081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6F01-16D4-4D78-BC68-A5C749A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24FC-CE7C-4B1F-9FD9-8CA21CB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2726B-AA8C-453E-82C5-68305F7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8E1-8498-4069-AED3-B0E1DDA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5E45-2824-422B-AB8A-F5A71ED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1845B-94BF-40AD-A560-9E0A893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F19A-A9EF-41B5-9AC8-93C58B86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3C32-A439-4A59-8F84-5787646E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1D78-44BC-4E70-A8F5-9DB3E523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FF08-215E-4D87-99F2-41305BCB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A3BC-07B4-45F1-A5D2-B3B71F75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46A7-CE46-4A71-8AB4-86DB40A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17250-B8AE-4A46-AA6A-86DCD97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F92ED-C3D6-4A84-A623-B3DDF548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47C-9ED9-4808-ADD0-3558D4A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DC1E-41E9-4412-BEBB-6BFF544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4242-7291-48EF-81AE-2B46E6E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64AD-CBFD-40E2-93D6-B6139AE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1985-8435-4AB3-9439-7D2E970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1D9A-5442-4407-8EE1-C24796DB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20400-9A35-4A41-8DC9-23F4EFCF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7834-A266-4697-BA1D-012B7487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AB2FF-9763-4E8B-BF22-225A04A6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46A52-5A08-40E0-AD06-BC946A13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843D3-5E9A-4A94-8520-C843F01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555-AE28-4955-9481-576ADCE4036A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91B-B59A-4035-8F2B-FD9C2EEAB675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7F0-2126-4F66-96D5-3F298B176949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03F-6D18-4BE5-B9E5-A0A17DB6A607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687F-5F23-448E-BFEC-5CFD1E1D0468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8657-8A26-4878-A60F-1C6B07B7AD1D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033F-1FF9-477C-A308-9E2C63215646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E9F6-8A8A-4456-A589-0B722B0B8CE9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348-81AE-49D8-A045-E143A6863E20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870-B5A0-4B79-B604-360F134A0434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F326-ACA1-407D-82EE-D1E8259DF446}" type="slidenum">
              <a:rPr b="0" lang="es-PE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0D1-975F-46D5-8D4B-5CC6A6142373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28440" y="3500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96464"/>
                </a:solidFill>
                <a:latin typeface="Georgia"/>
              </a:rPr>
              <a:t>DRA. YOLANDA RAMÍREZ VILLACOR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d34817"/>
                </a:solidFill>
                <a:latin typeface="Georgia"/>
              </a:rPr>
              <a:t>GLOBALIZACION Y EDUCACION</a:t>
            </a:r>
            <a:endParaRPr b="0" lang="en-US" sz="4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15" name="Picture 5" descr="C:\Users\TOSHIBA\Pictures\Galería multimedia de Microsoft\j0254486.gif"/>
          <p:cNvPicPr/>
          <p:nvPr/>
        </p:nvPicPr>
        <p:blipFill>
          <a:blip r:embed="rId1"/>
          <a:stretch/>
        </p:blipFill>
        <p:spPr>
          <a:xfrm>
            <a:off x="1857240" y="4643280"/>
            <a:ext cx="1928880" cy="1414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TOSHIBA\AppData\Local\Microsoft\Windows\Temporary Internet Files\Content.IE5\IRO1Z2ID\MCj03418590000[1].jpg"/>
          <p:cNvPicPr/>
          <p:nvPr/>
        </p:nvPicPr>
        <p:blipFill>
          <a:blip r:embed="rId2"/>
          <a:stretch/>
        </p:blipFill>
        <p:spPr>
          <a:xfrm>
            <a:off x="5500800" y="4357800"/>
            <a:ext cx="27097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628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4e1610"/>
                </a:solidFill>
                <a:latin typeface="Georgia"/>
              </a:rPr>
              <a:t>GLOBALIZACIÓN Y CULTURA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2560" y="135684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300" spc="-1" strike="noStrike">
                <a:solidFill>
                  <a:srgbClr val="000000"/>
                </a:solidFill>
                <a:latin typeface="Georgia"/>
              </a:rPr>
              <a:t>Algunos teóricos plantean que la globalización es el resultado de un plan con connotaciones ideológicas: </a:t>
            </a:r>
            <a:r>
              <a:rPr b="1" i="1" lang="es-PE" sz="2300" spc="-1" strike="noStrike">
                <a:solidFill>
                  <a:srgbClr val="742217"/>
                </a:solidFill>
                <a:latin typeface="Georgia"/>
              </a:rPr>
              <a:t>más allá de ser un fenómeno económico derivado de la revolución tecnológica y de la comunicación, conlleva una visión única de la sociedad, la cultura y la educación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90000"/>
              </a:lnSpc>
              <a:spcBef>
                <a:spcPts val="3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300" spc="-1" strike="noStrike">
                <a:solidFill>
                  <a:srgbClr val="000000"/>
                </a:solidFill>
                <a:latin typeface="Georgia"/>
              </a:rPr>
              <a:t>En el área de la cultura contemplamos una tendencia a la homogenización, produciéndose la erosión de las culturas locales e indígenas: </a:t>
            </a:r>
            <a:r>
              <a:rPr b="1" i="1" lang="es-PE" sz="2300" spc="-1" strike="noStrike">
                <a:solidFill>
                  <a:srgbClr val="742217"/>
                </a:solidFill>
                <a:latin typeface="Georgia"/>
              </a:rPr>
              <a:t>la cultura de masas, de consumo, de tipo occidental se ha convertido en un "universal cultural" que impregna a todo el mundo.</a:t>
            </a:r>
            <a:br>
              <a:rPr sz="2300"/>
            </a:br>
            <a:r>
              <a:rPr b="1" i="1" lang="es-PE" sz="2300" spc="-1" strike="noStrike">
                <a:solidFill>
                  <a:srgbClr val="7c6b4d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4" descr="C:\Users\TOSHIBA\Documents\MIS DOCUMENTOS\Mis imágenes\Galería multimedia de Microsoft\j0336344.gif"/>
          <p:cNvPicPr/>
          <p:nvPr/>
        </p:nvPicPr>
        <p:blipFill>
          <a:blip r:embed="rId1"/>
          <a:stretch/>
        </p:blipFill>
        <p:spPr>
          <a:xfrm>
            <a:off x="7572240" y="2857680"/>
            <a:ext cx="1285920" cy="1468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42217"/>
                </a:solidFill>
                <a:latin typeface="Georgia"/>
              </a:rPr>
              <a:t>GLOBALIZACIÓN Y TRANSFORMACIONES: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LA FAMILIA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 la disociación entre la </a:t>
            </a:r>
            <a:r>
              <a:rPr b="1" lang="es-PE" sz="2500" spc="-1" strike="noStrike">
                <a:solidFill>
                  <a:srgbClr val="742217"/>
                </a:solidFill>
                <a:latin typeface="Georgia"/>
              </a:rPr>
              <a:t>conyugalidad (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vínculos de pareja, que se disuelve, por ser social) y </a:t>
            </a:r>
            <a:r>
              <a:rPr b="1" lang="es-PE" sz="2500" spc="-1" strike="noStrike">
                <a:solidFill>
                  <a:srgbClr val="742217"/>
                </a:solidFill>
                <a:latin typeface="Georgia"/>
              </a:rPr>
              <a:t>filiación</a:t>
            </a:r>
            <a:r>
              <a:rPr b="1" lang="es-PE" sz="25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(vínculos entre padres e hijos, que se mantiene por ser natural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EL SER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el </a:t>
            </a:r>
            <a:r>
              <a:rPr b="1" lang="es-PE" sz="2500" spc="-1" strike="noStrike">
                <a:solidFill>
                  <a:srgbClr val="69240c"/>
                </a:solidFill>
                <a:latin typeface="Georgia"/>
              </a:rPr>
              <a:t>individualismo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, que se basa en que cada persona es “única”, pero depende cada vez más de lo mater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LA TECNOLOGÍA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1" lang="es-PE" sz="2500" spc="-1" strike="noStrike">
                <a:solidFill>
                  <a:srgbClr val="69240c"/>
                </a:solidFill>
                <a:latin typeface="Georgia"/>
              </a:rPr>
              <a:t>las TICs 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que han alterado las relaciones sociales y los procesos de comunicación y educació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 Y EDUCACIÓN: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75" name="4 Diagrama" descr=""/>
          <p:cNvPicPr/>
          <p:nvPr/>
        </p:nvPicPr>
        <p:blipFill>
          <a:blip r:embed="rId1"/>
          <a:stretch/>
        </p:blipFill>
        <p:spPr>
          <a:xfrm>
            <a:off x="706320" y="1384200"/>
            <a:ext cx="7871040" cy="4986360"/>
          </a:xfrm>
          <a:prstGeom prst="rect">
            <a:avLst/>
          </a:prstGeom>
          <a:ln w="0">
            <a:noFill/>
          </a:ln>
        </p:spPr>
      </p:pic>
      <p:cxnSp>
        <p:nvCxnSpPr>
          <p:cNvPr id="676" name="7 Conector recto de flecha"/>
          <p:cNvCxnSpPr/>
          <p:nvPr/>
        </p:nvCxnSpPr>
        <p:spPr>
          <a:xfrm flipV="1">
            <a:off x="4570560" y="2571480"/>
            <a:ext cx="3600" cy="42912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7" name="9 Conector recto de flecha"/>
          <p:cNvCxnSpPr/>
          <p:nvPr/>
        </p:nvCxnSpPr>
        <p:spPr>
          <a:xfrm flipV="1">
            <a:off x="5929200" y="3357360"/>
            <a:ext cx="215280" cy="14328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8" name="11 Conector recto de flecha"/>
          <p:cNvCxnSpPr/>
          <p:nvPr/>
        </p:nvCxnSpPr>
        <p:spPr>
          <a:xfrm>
            <a:off x="5786280" y="4429080"/>
            <a:ext cx="286560" cy="28656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9" name="13 Conector recto de flecha"/>
          <p:cNvCxnSpPr/>
          <p:nvPr/>
        </p:nvCxnSpPr>
        <p:spPr>
          <a:xfrm flipH="1">
            <a:off x="4642560" y="4788000"/>
            <a:ext cx="2520" cy="35784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80" name="15 Conector recto de flecha"/>
          <p:cNvCxnSpPr/>
          <p:nvPr/>
        </p:nvCxnSpPr>
        <p:spPr>
          <a:xfrm flipH="1">
            <a:off x="3142800" y="4356720"/>
            <a:ext cx="286560" cy="21492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81" name="17 Conector recto de flecha"/>
          <p:cNvCxnSpPr/>
          <p:nvPr/>
        </p:nvCxnSpPr>
        <p:spPr>
          <a:xfrm flipH="1" flipV="1">
            <a:off x="3214080" y="3285360"/>
            <a:ext cx="286200" cy="7236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200" spc="-1" strike="noStrike">
                <a:solidFill>
                  <a:srgbClr val="d34817"/>
                </a:solidFill>
                <a:latin typeface="Georgia"/>
              </a:rPr>
              <a:t>ALGUNAS REFLEXIONES</a:t>
            </a:r>
            <a:endParaRPr b="0" lang="en-US" sz="42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4838760" cy="324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28400" y="428400"/>
            <a:ext cx="7218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Los procesos educativos,  deben traducirse en acciones tales como: </a:t>
            </a:r>
            <a:r>
              <a:rPr b="1" i="1" lang="es-ES" sz="2700" spc="-1" strike="noStrike">
                <a:solidFill>
                  <a:srgbClr val="c00000"/>
                </a:solidFill>
                <a:latin typeface="Georgia"/>
              </a:rPr>
              <a:t>flexibilidad de criterios, creación de ambientes positivos, aprendizajes autónomos, formación de habilidades, hábitos de conciencia reflexivas, críticas y creadoras</a:t>
            </a: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, accionando nuevas estrategias de presentar los contenidos, considerando la manera en como las comunidades producen y transmiten los conocimiento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6" descr="C:\Users\TOSHIBA\Pictures\Galería multimedia de Microsoft\j0236371.gif"/>
          <p:cNvPicPr/>
          <p:nvPr/>
        </p:nvPicPr>
        <p:blipFill>
          <a:blip r:embed="rId1"/>
          <a:stretch/>
        </p:blipFill>
        <p:spPr>
          <a:xfrm>
            <a:off x="7286760" y="2000160"/>
            <a:ext cx="1500120" cy="1478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C:\Users\TOSHIBA\Pictures\Galería multimedia de Microsoft\j0286780.gif"/>
          <p:cNvPicPr/>
          <p:nvPr/>
        </p:nvPicPr>
        <p:blipFill>
          <a:blip r:embed="rId2"/>
          <a:stretch/>
        </p:blipFill>
        <p:spPr>
          <a:xfrm>
            <a:off x="6862680" y="485784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5" descr="j0297265"/>
          <p:cNvPicPr/>
          <p:nvPr/>
        </p:nvPicPr>
        <p:blipFill>
          <a:blip r:embed="rId1"/>
          <a:stretch/>
        </p:blipFill>
        <p:spPr>
          <a:xfrm>
            <a:off x="7143840" y="3929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428760" y="1329840"/>
            <a:ext cx="66434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eorgia"/>
              </a:rPr>
              <a:t>Mediante la liberación cultural</a:t>
            </a: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erradicar prácticas etnocentrista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ser cada día menos colonizados y más concientizado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romper las cadenas de inferioridad y de subestimación que se tienen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respetar las multiexpresiones culturales de los puebl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44646"/>
                </a:solidFill>
                <a:latin typeface="Georgia"/>
              </a:rPr>
              <a:t>Y ¿COMO FORTALECER UNA IDENTIDAD CULTURAL BASADA EN LA DIVERSIDAD ?</a:t>
            </a:r>
            <a:endParaRPr b="0" lang="en-US" sz="2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90" name="Picture 3" descr="C:\Users\TOSHIBA\Pictures\Galería multimedia de Microsoft\AG00425_.gif"/>
          <p:cNvPicPr/>
          <p:nvPr/>
        </p:nvPicPr>
        <p:blipFill>
          <a:blip r:embed="rId2"/>
          <a:stretch/>
        </p:blipFill>
        <p:spPr>
          <a:xfrm rot="808200">
            <a:off x="6662880" y="1785960"/>
            <a:ext cx="2028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j0297265"/>
          <p:cNvPicPr/>
          <p:nvPr/>
        </p:nvPicPr>
        <p:blipFill>
          <a:blip r:embed="rId1"/>
          <a:stretch/>
        </p:blipFill>
        <p:spPr>
          <a:xfrm>
            <a:off x="7143840" y="3929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285840" y="1329840"/>
            <a:ext cx="71438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Georgia"/>
              </a:rPr>
              <a:t>Mediante la liberación cultural</a:t>
            </a: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combatir la "enajenación cultural" que se manifiesta en la necesidad de copiarlo todo de las metrópolis llamadas desarrolladas (valores, formas de vida, normas, formas artísticas etc.) que nos conducen a una dependencia alienante, para continuar sosteniendo una situación de subdesarrollo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c00000"/>
                </a:solidFill>
                <a:latin typeface="Georgia"/>
              </a:rPr>
              <a:t>ser cada día más auténticos y origina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44646"/>
                </a:solidFill>
                <a:latin typeface="Georgia"/>
              </a:rPr>
              <a:t>Y ¿COMO FORTALECER UNA IDENTIDAD CULTURAL BASADA EN LA DIVERSIDAD ?</a:t>
            </a:r>
            <a:endParaRPr b="0" lang="en-US" sz="2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94" name="Picture 3" descr="C:\Users\TOSHIBA\Pictures\Galería multimedia de Microsoft\AG00425_.gif"/>
          <p:cNvPicPr/>
          <p:nvPr/>
        </p:nvPicPr>
        <p:blipFill>
          <a:blip r:embed="rId2"/>
          <a:stretch/>
        </p:blipFill>
        <p:spPr>
          <a:xfrm rot="808200">
            <a:off x="6662880" y="1785960"/>
            <a:ext cx="2028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Rectángulo" descr=""/>
          <p:cNvPicPr/>
          <p:nvPr/>
        </p:nvPicPr>
        <p:blipFill>
          <a:blip r:embed="rId1"/>
          <a:stretch/>
        </p:blipFill>
        <p:spPr>
          <a:xfrm>
            <a:off x="353880" y="2998800"/>
            <a:ext cx="6059520" cy="25732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"/>
          <p:cNvPicPr/>
          <p:nvPr/>
        </p:nvPicPr>
        <p:blipFill>
          <a:blip r:embed="rId3"/>
          <a:stretch/>
        </p:blipFill>
        <p:spPr>
          <a:xfrm>
            <a:off x="4500720" y="428760"/>
            <a:ext cx="4286160" cy="2771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"/>
          <p:cNvPicPr/>
          <p:nvPr/>
        </p:nvPicPr>
        <p:blipFill>
          <a:blip r:embed="rId4"/>
          <a:stretch/>
        </p:blipFill>
        <p:spPr>
          <a:xfrm>
            <a:off x="428760" y="500040"/>
            <a:ext cx="402912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742217"/>
                </a:solidFill>
                <a:latin typeface="Georgia"/>
              </a:rPr>
              <a:t>GLOBALIZACION</a:t>
            </a:r>
            <a:endParaRPr b="0" lang="en-US" sz="40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357200"/>
            <a:ext cx="8504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Georgia"/>
              </a:rPr>
              <a:t>VISIÓN NEOLIBERAL CAPITALISTA: la globalización es un proceso esencialmente económico que apunta a la liberalización de los mercados y a la integración de las economías nacionales en un nuevo orden glob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Georgia"/>
              </a:rPr>
              <a:t>Desde esa cosmovisión decir globalización es decir occidentalización a la manera imperialista de los EEUU, dado que la economía mundial está cada vez más dominada por el poder económico de los EEUU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3" descr="C:\Users\TOSHIBA\Pictures\Galería multimedia de Microsoft\j0254484.gif"/>
          <p:cNvPicPr/>
          <p:nvPr/>
        </p:nvPicPr>
        <p:blipFill>
          <a:blip r:embed="rId1"/>
          <a:stretch/>
        </p:blipFill>
        <p:spPr>
          <a:xfrm>
            <a:off x="3929040" y="5143680"/>
            <a:ext cx="2357640" cy="1346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742217"/>
                </a:solidFill>
                <a:latin typeface="Georgia"/>
              </a:rPr>
              <a:t>GLOBALIZACION COMO TEORIA DEL DESARROLLO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5880" y="1357200"/>
            <a:ext cx="805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Uno de sus postulados esencial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mayor nivel de integra</a:t>
            </a: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ción </a:t>
            </a: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entre las diferentes regiones del mundo, y que ese nivel de integración está </a:t>
            </a: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afectando las condiciones sociales y económicas de los países.</a:t>
            </a:r>
            <a:endParaRPr b="0" lang="en-US" sz="26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os niveles de mayor integración se evidencian 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as relaciones comerciale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os flujos financiero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El turismo 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as comunicacion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C:\Users\TOSHIBA\Pictures\Galería multimedia de Microsoft\j0284152.gif"/>
          <p:cNvPicPr/>
          <p:nvPr/>
        </p:nvPicPr>
        <p:blipFill>
          <a:blip r:embed="rId1"/>
          <a:stretch/>
        </p:blipFill>
        <p:spPr>
          <a:xfrm>
            <a:off x="6786720" y="4429080"/>
            <a:ext cx="135720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742217"/>
                </a:solidFill>
                <a:latin typeface="Georgia"/>
              </a:rPr>
              <a:t>GLOBALIZACION Y DESARROLLO</a:t>
            </a:r>
            <a:endParaRPr b="0" lang="en-US" sz="36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8548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En el marco de la globalización se subrayan especialmente dos grandes tendencia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los sistemas de comunicación mundial</a:t>
            </a: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; y</a:t>
            </a: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las condiciones económicas</a:t>
            </a: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, especialmente aquellas relacionadas con la movilidad de los recursos financieros y comerciales.</a:t>
            </a: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5" descr="C:\Users\TOSHIBA\Documents\MIS DOCUMENTOS\Mis imágenes\Galería multimedia de Microsoft\j0283863.gif"/>
          <p:cNvPicPr/>
          <p:nvPr/>
        </p:nvPicPr>
        <p:blipFill>
          <a:blip r:embed="rId1"/>
          <a:stretch/>
        </p:blipFill>
        <p:spPr>
          <a:xfrm>
            <a:off x="7929720" y="3143160"/>
            <a:ext cx="904680" cy="1400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C:\Users\TOSHIBA\Documents\MIS DOCUMENTOS\Mis imágenes\Galería multimedia de Microsoft\j0236452.gif"/>
          <p:cNvPicPr/>
          <p:nvPr/>
        </p:nvPicPr>
        <p:blipFill>
          <a:blip r:embed="rId2"/>
          <a:stretch/>
        </p:blipFill>
        <p:spPr>
          <a:xfrm>
            <a:off x="6786720" y="5286240"/>
            <a:ext cx="1357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69240c"/>
                </a:solidFill>
                <a:latin typeface="Georgia"/>
              </a:rPr>
              <a:t>INFLUENCIA DE LA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28400" y="1357200"/>
            <a:ext cx="5429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En las conductas personales y colectivas,         por la forma de difundir el mensaje ideológico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A través 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a lengua oral y escrita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as imáge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C:\Users\TOSHIBA\Pictures\Galería multimedia de Microsoft\j0323810.gif"/>
          <p:cNvPicPr/>
          <p:nvPr/>
        </p:nvPicPr>
        <p:blipFill>
          <a:blip r:embed="rId1"/>
          <a:stretch/>
        </p:blipFill>
        <p:spPr>
          <a:xfrm>
            <a:off x="3714840" y="4429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630" name="4 Flecha a la derecha con bandas"/>
          <p:cNvSpPr/>
          <p:nvPr/>
        </p:nvSpPr>
        <p:spPr>
          <a:xfrm>
            <a:off x="5072040" y="3000240"/>
            <a:ext cx="1000080" cy="857520"/>
          </a:xfrm>
          <a:prstGeom prst="pie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5 CuadroTexto"/>
          <p:cNvSpPr/>
          <p:nvPr/>
        </p:nvSpPr>
        <p:spPr>
          <a:xfrm>
            <a:off x="6215040" y="2857680"/>
            <a:ext cx="264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etra en el espacio vivencial de los sujetos, y en las formas de vida: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6 Flecha a la derecha con bandas"/>
          <p:cNvSpPr/>
          <p:nvPr/>
        </p:nvSpPr>
        <p:spPr>
          <a:xfrm>
            <a:off x="2571840" y="1857240"/>
            <a:ext cx="428400" cy="214560"/>
          </a:xfrm>
          <a:prstGeom prst="pie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36 Esquina doblada"/>
          <p:cNvSpPr/>
          <p:nvPr/>
        </p:nvSpPr>
        <p:spPr>
          <a:xfrm>
            <a:off x="5286240" y="4929120"/>
            <a:ext cx="3286440" cy="114300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5 Esquina doblada"/>
          <p:cNvSpPr/>
          <p:nvPr/>
        </p:nvSpPr>
        <p:spPr>
          <a:xfrm>
            <a:off x="3214800" y="5143680"/>
            <a:ext cx="1285920" cy="50004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34 Esquina doblada"/>
          <p:cNvSpPr/>
          <p:nvPr/>
        </p:nvSpPr>
        <p:spPr>
          <a:xfrm>
            <a:off x="1000080" y="5000760"/>
            <a:ext cx="1143000" cy="50004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8 Terminador"/>
          <p:cNvSpPr/>
          <p:nvPr/>
        </p:nvSpPr>
        <p:spPr>
          <a:xfrm>
            <a:off x="5500800" y="3357720"/>
            <a:ext cx="2643120" cy="57132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7 Terminador"/>
          <p:cNvSpPr/>
          <p:nvPr/>
        </p:nvSpPr>
        <p:spPr>
          <a:xfrm>
            <a:off x="3357720" y="3357720"/>
            <a:ext cx="1785960" cy="50004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6 Terminador"/>
          <p:cNvSpPr/>
          <p:nvPr/>
        </p:nvSpPr>
        <p:spPr>
          <a:xfrm>
            <a:off x="785880" y="3357720"/>
            <a:ext cx="2143080" cy="50004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5 Documento"/>
          <p:cNvSpPr/>
          <p:nvPr/>
        </p:nvSpPr>
        <p:spPr>
          <a:xfrm>
            <a:off x="2643120" y="2428920"/>
            <a:ext cx="4071960" cy="571320"/>
          </a:xfrm>
          <a:prstGeom prst="flowChartDocument">
            <a:avLst/>
          </a:prstGeom>
          <a:solidFill>
            <a:srgbClr val="00b0f0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3 Rectángulo redondeado"/>
          <p:cNvSpPr/>
          <p:nvPr/>
        </p:nvSpPr>
        <p:spPr>
          <a:xfrm>
            <a:off x="1357200" y="1428840"/>
            <a:ext cx="671508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742217"/>
                </a:solidFill>
                <a:latin typeface="Georgia"/>
              </a:rPr>
              <a:t>DEPENDENCIA Y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42" name="Picture 2" descr="C:\Users\TOSHIBA\AppData\Local\Microsoft\Windows\Temporary Internet Files\Content.IE5\JWFB3G7D\MCj01993380000[1].wmf"/>
          <p:cNvPicPr/>
          <p:nvPr/>
        </p:nvPicPr>
        <p:blipFill>
          <a:blip r:embed="rId1"/>
          <a:stretch/>
        </p:blipFill>
        <p:spPr>
          <a:xfrm>
            <a:off x="500040" y="5357880"/>
            <a:ext cx="2621160" cy="1249200"/>
          </a:xfrm>
          <a:prstGeom prst="rect">
            <a:avLst/>
          </a:prstGeom>
          <a:ln w="0">
            <a:noFill/>
          </a:ln>
        </p:spPr>
      </p:pic>
      <p:sp>
        <p:nvSpPr>
          <p:cNvPr id="643" name="4 CuadroTexto"/>
          <p:cNvSpPr/>
          <p:nvPr/>
        </p:nvSpPr>
        <p:spPr>
          <a:xfrm>
            <a:off x="1357200" y="150012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SOCIEDADES DEPENDIENTES CULTUR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CuadroTexto"/>
          <p:cNvSpPr/>
          <p:nvPr/>
        </p:nvSpPr>
        <p:spPr>
          <a:xfrm>
            <a:off x="785880" y="34052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6 CuadroTexto"/>
          <p:cNvSpPr/>
          <p:nvPr/>
        </p:nvSpPr>
        <p:spPr>
          <a:xfrm>
            <a:off x="3429000" y="34164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concep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7 CuadroTexto"/>
          <p:cNvSpPr/>
          <p:nvPr/>
        </p:nvSpPr>
        <p:spPr>
          <a:xfrm>
            <a:off x="2786040" y="24573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da también depen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8 CuadroTexto"/>
          <p:cNvSpPr/>
          <p:nvPr/>
        </p:nvSpPr>
        <p:spPr>
          <a:xfrm>
            <a:off x="5572080" y="34164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formas art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9 CuadroTexto"/>
          <p:cNvSpPr/>
          <p:nvPr/>
        </p:nvSpPr>
        <p:spPr>
          <a:xfrm>
            <a:off x="3214800" y="44164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manifiest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10 CuadroTexto"/>
          <p:cNvSpPr/>
          <p:nvPr/>
        </p:nvSpPr>
        <p:spPr>
          <a:xfrm>
            <a:off x="1071720" y="5059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CuadroTexto"/>
          <p:cNvSpPr/>
          <p:nvPr/>
        </p:nvSpPr>
        <p:spPr>
          <a:xfrm>
            <a:off x="3214800" y="5214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CuadroTexto"/>
          <p:cNvSpPr/>
          <p:nvPr/>
        </p:nvSpPr>
        <p:spPr>
          <a:xfrm>
            <a:off x="5286240" y="493380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UMO INDISCRIMINADO DE PRODUCTOS Y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4 Flecha abajo"/>
          <p:cNvSpPr/>
          <p:nvPr/>
        </p:nvSpPr>
        <p:spPr>
          <a:xfrm>
            <a:off x="4071960" y="207180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20 Conector recto de flecha"/>
          <p:cNvCxnSpPr/>
          <p:nvPr/>
        </p:nvCxnSpPr>
        <p:spPr>
          <a:xfrm flipH="1">
            <a:off x="2285280" y="3070800"/>
            <a:ext cx="1072440" cy="21492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54" name="27 Conector recto de flecha"/>
          <p:cNvCxnSpPr>
            <a:endCxn id="637" idx="0"/>
          </p:cNvCxnSpPr>
          <p:nvPr/>
        </p:nvCxnSpPr>
        <p:spPr>
          <a:xfrm flipH="1">
            <a:off x="4249080" y="2999880"/>
            <a:ext cx="37080" cy="3582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55" name="30 Conector recto de flecha"/>
          <p:cNvCxnSpPr/>
          <p:nvPr/>
        </p:nvCxnSpPr>
        <p:spPr>
          <a:xfrm>
            <a:off x="5928840" y="2928600"/>
            <a:ext cx="894600" cy="42948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656" name="33 Abrir llave"/>
          <p:cNvSpPr/>
          <p:nvPr/>
        </p:nvSpPr>
        <p:spPr>
          <a:xfrm rot="16200000">
            <a:off x="4000320" y="1071360"/>
            <a:ext cx="571680" cy="628668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6286680"/>
              <a:gd name="textAreaBottom" fmla="*/ 6271920 h 628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38 Conector recto de flecha"/>
          <p:cNvCxnSpPr/>
          <p:nvPr/>
        </p:nvCxnSpPr>
        <p:spPr>
          <a:xfrm flipH="1">
            <a:off x="1856880" y="4713840"/>
            <a:ext cx="1501200" cy="214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58" name="40 Conector recto de flecha"/>
          <p:cNvCxnSpPr/>
          <p:nvPr/>
        </p:nvCxnSpPr>
        <p:spPr>
          <a:xfrm flipH="1">
            <a:off x="3999960" y="4716360"/>
            <a:ext cx="1080" cy="2851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59" name="42 Conector recto de flecha"/>
          <p:cNvCxnSpPr/>
          <p:nvPr/>
        </p:nvCxnSpPr>
        <p:spPr>
          <a:xfrm>
            <a:off x="4642920" y="4714560"/>
            <a:ext cx="1429560" cy="1436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742217"/>
                </a:solidFill>
                <a:latin typeface="Georgia"/>
              </a:rPr>
              <a:t>DEPENDENCIA Y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57120" y="135684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El consumo indiscriminado a gran escala, no solo de productos y objetos, sino también de mensajes como construcciones elaboradas que pueden modelar nuestras actitudes, conductas e ideas sobre el mundo, refuerz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estereotipo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role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actitud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499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ideologías, entre ellas la homogenización cultural</a:t>
            </a:r>
            <a:r>
              <a:rPr b="1" i="1" lang="es-E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4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6143760" y="3714840"/>
            <a:ext cx="182700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: principales aspectos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85840" y="149976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Creciente importancia de los sistemas de comunicaciones global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Interacción más fluida de las naciones, grupos sociales y personas, tanto dentro como entre nacion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Facilidad para la interacción de grupos de las naciones más pobres en su comunicación con otros centros más desarrollado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El principio de la “aldea global” se sustenta en las comunicaciones y las transacciones comercial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Picture 2" descr="C:\Users\TOSHIBA\Pictures\Galería multimedia de Microsoft\j0284011.gif"/>
          <p:cNvPicPr/>
          <p:nvPr/>
        </p:nvPicPr>
        <p:blipFill>
          <a:blip r:embed="rId1"/>
          <a:stretch/>
        </p:blipFill>
        <p:spPr>
          <a:xfrm>
            <a:off x="7643880" y="2071800"/>
            <a:ext cx="115236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128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 Y SOCIEDAD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8584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globalización está generando profundos cambios en el ámbito más amplio de la organización social. Las luchas por la defensa de las identidades culturales toman a menudo formas de agresión violenta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segmentación de los países y de las sociedades hacen surgir tres tipos de actor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GLOBALIZADORES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 que poseen el conjunto de los capitales, de los recursos, de los conocimientos y el monopolio de las informaciones; 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GLOBALIZADOS 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que son trabajadores y consumidores que tienen escasos y superficiales conocimientos; 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EXCLUÍDOS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 que no tienen acceso a los conocimientos</a:t>
            </a:r>
            <a:r>
              <a:rPr b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, 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ninguna importancia como consumidores y tienen un papel insignificante en la producción.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4" descr="C:\Users\TOSHIBA\Documents\MIS DOCUMENTOS\Mis imágenes\Galería multimedia de Microsoft\j0318166.gif"/>
          <p:cNvPicPr/>
          <p:nvPr/>
        </p:nvPicPr>
        <p:blipFill>
          <a:blip r:embed="rId1"/>
          <a:stretch/>
        </p:blipFill>
        <p:spPr>
          <a:xfrm>
            <a:off x="7810560" y="214200"/>
            <a:ext cx="11192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5:18Z</dcterms:created>
  <dc:creator>TOSHIBA</dc:creator>
  <dc:description/>
  <dc:language>en-US</dc:language>
  <cp:lastModifiedBy>Yolita</cp:lastModifiedBy>
  <dcterms:modified xsi:type="dcterms:W3CDTF">2009-06-27T14:42:19Z</dcterms:modified>
  <cp:revision>135</cp:revision>
  <dc:subject/>
  <dc:title>Diapositiva 1</dc:title>
</cp:coreProperties>
</file>